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9.jpeg" ContentType="image/jpeg"/>
  <Override PartName="/ppt/media/image27.jpeg" ContentType="image/jpeg"/>
  <Override PartName="/ppt/media/image17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29B7-457B-4A50-BD6B-E9529881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3932-7D07-4C95-AE5F-8C347752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9536-108C-4367-A7E4-5C2A2826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3E03-AD83-4445-BED6-19788717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5831-4B59-4D9C-83B6-BAEC759F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37D7-2BB2-4448-8E2C-FC8DDD5C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3B7A-EF24-40EF-9BC7-BD0A8DED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B5F5-F4B4-4914-8049-A6991915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09F2-358D-42B8-9106-7CE4EDD9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4298-24EB-43AF-8247-C8CD33EC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E0DC-F544-4DED-9F41-2914F14F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8036-CEA5-4FB6-A360-CD43B620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27F8-E245-46D0-8FBD-375C1907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E7AE-4360-4AEC-9A8C-2B258A95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2FD3-B1A3-4067-8819-70499F64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83CC-E606-420B-89B1-7D8FA168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F40C-84CC-496E-A218-143B7DAE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6130-75E1-4B5F-A8F3-3012A13D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E92E-7779-4F8C-B7CE-2052FE0A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BEB0-F275-4519-811E-93F1F9E2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EE11-EB69-4B96-AC97-62DC2321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28E8-BAA3-41E4-898F-C6150A23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E683-E744-40EE-B33B-1FA0C41C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7C3D-61C2-42C6-AA6C-1BFDBEBC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358D-A02C-40D9-BCE1-70A36BD131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5D52-AE7F-4B7D-8B8D-E029D066A7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AlicePaul_1901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Unit III. The Progressive Era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4343040"/>
            <a:ext cx="8229600" cy="217188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orruption Sparks Ref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 political machines committed voting fraud to win elec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took “kickbacks” (illegal payments) for helping companies get contrac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 accepted bribes to allow for illegal activit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8" descr="csl0685l"/>
          <p:cNvPicPr/>
          <p:nvPr/>
        </p:nvPicPr>
        <p:blipFill>
          <a:blip r:embed="rId1"/>
          <a:stretch/>
        </p:blipFill>
        <p:spPr>
          <a:xfrm>
            <a:off x="1523880" y="0"/>
            <a:ext cx="556272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105520" y="533520"/>
            <a:ext cx="4038480" cy="586728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illiam Marcy Twe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.K.A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“Boss Tweed”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ead of Tammany Hall (NY Democratic Political Machine.) pocketed over $200 mi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. With the help of political Cartoons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omas Na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Boss Tweed was indicted on 120 counts of fraud &amp; extor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8" descr="1813222"/>
          <p:cNvPicPr/>
          <p:nvPr/>
        </p:nvPicPr>
        <p:blipFill>
          <a:blip r:embed="rId1"/>
          <a:stretch/>
        </p:blipFill>
        <p:spPr>
          <a:xfrm>
            <a:off x="0" y="0"/>
            <a:ext cx="505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3760" y="-360"/>
            <a:ext cx="3809880" cy="655308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obert La Follet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ought for pol. Reform in Wisconsin &amp; influenced other states to reform their corrupt gov’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. Oregon passe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tiative- citizens enact laws by popular vo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erendum- allowed voters to overturn an existing law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all- allowed voter to remove an elected official from off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7" descr="amvoices-a0a1g6-a"/>
          <p:cNvPicPr/>
          <p:nvPr/>
        </p:nvPicPr>
        <p:blipFill>
          <a:blip r:embed="rId1"/>
          <a:stretch/>
        </p:blipFill>
        <p:spPr>
          <a:xfrm>
            <a:off x="0" y="297000"/>
            <a:ext cx="52578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3. Presidents Attack Political Corruption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496040" cy="579132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Pres. Rutherford B. Hayes fired useless or corrupt employ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Pres. James A. Garfield- fought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talwart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ppl that oppossed pol. Reform) &amp; gave jobs to reformers.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(later assassinated by lawyers who he turned down for a jo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7" descr="45"/>
          <p:cNvPicPr/>
          <p:nvPr/>
        </p:nvPicPr>
        <p:blipFill>
          <a:blip r:embed="rId1"/>
          <a:stretch/>
        </p:blipFill>
        <p:spPr>
          <a:xfrm>
            <a:off x="5638680" y="838080"/>
            <a:ext cx="2248200" cy="3714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james-a-garfield-national-historic-site-1"/>
          <p:cNvPicPr/>
          <p:nvPr/>
        </p:nvPicPr>
        <p:blipFill>
          <a:blip r:embed="rId2"/>
          <a:stretch/>
        </p:blipFill>
        <p:spPr>
          <a:xfrm>
            <a:off x="5486400" y="1371600"/>
            <a:ext cx="3057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4038480" cy="350532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Chester A. Arthur- passed the Pendleton Act which called fo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ivil servan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be given jobs based on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erit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8" descr="21_01"/>
          <p:cNvPicPr/>
          <p:nvPr/>
        </p:nvPicPr>
        <p:blipFill>
          <a:blip r:embed="rId1"/>
          <a:stretch/>
        </p:blipFill>
        <p:spPr>
          <a:xfrm>
            <a:off x="4876920" y="990720"/>
            <a:ext cx="3952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. Social Reformers Mobiliz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Social Reformers were mostly young educated men &amp; women from the middle cla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Focused on eliminating poverty especially among immigr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Many were influenced by th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ocial Gospel Mov’t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ich preached salvation through service of the po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9" descr="slide0001_image001"/>
          <p:cNvPicPr/>
          <p:nvPr/>
        </p:nvPicPr>
        <p:blipFill>
          <a:blip r:embed="rId1"/>
          <a:stretch/>
        </p:blipFill>
        <p:spPr>
          <a:xfrm>
            <a:off x="4267080" y="1716120"/>
            <a:ext cx="4648320" cy="3525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4. Settlement House Move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 Settlement Houses- community centers in slum areas that provided educational, cultural &amp; social servic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Jane Adams- founded Hull House in Chicago after living in th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English settlement hou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8" descr="225px_Jane_Addams_profile"/>
          <p:cNvPicPr/>
          <p:nvPr/>
        </p:nvPicPr>
        <p:blipFill>
          <a:blip r:embed="rId1"/>
          <a:stretch/>
        </p:blipFill>
        <p:spPr>
          <a:xfrm>
            <a:off x="914400" y="1676520"/>
            <a:ext cx="2867040" cy="3886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HullHouse"/>
          <p:cNvPicPr/>
          <p:nvPr/>
        </p:nvPicPr>
        <p:blipFill>
          <a:blip r:embed="rId2"/>
          <a:stretch/>
        </p:blipFill>
        <p:spPr>
          <a:xfrm>
            <a:off x="0" y="1828800"/>
            <a:ext cx="429588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4008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. Workers Rights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890’s - 1920’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98072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5105520"/>
            <a:ext cx="7848720" cy="175248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ild Labor Refor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 In the early 1900’s over a million children worked in mines &amp; facto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7" descr="dust"/>
          <p:cNvPicPr/>
          <p:nvPr/>
        </p:nvPicPr>
        <p:blipFill>
          <a:blip r:embed="rId1"/>
          <a:stretch/>
        </p:blipFill>
        <p:spPr>
          <a:xfrm>
            <a:off x="1600200" y="1030320"/>
            <a:ext cx="555300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4419720"/>
            <a:ext cx="8229600" cy="217152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Mary Harris Jones (Mother Jones)- led the “March of the Mill Children” to gain support for child labor law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By 1903 43 states passed laws outlawing the hiring of child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9" descr="ihy9712111"/>
          <p:cNvPicPr/>
          <p:nvPr/>
        </p:nvPicPr>
        <p:blipFill>
          <a:blip r:embed="rId1"/>
          <a:stretch/>
        </p:blipFill>
        <p:spPr>
          <a:xfrm>
            <a:off x="1905120" y="0"/>
            <a:ext cx="505764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. Improving Adult Working Condi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ult workers also faced poor working conditions with long hours, low pay and dangerous work environment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. States like Oregon passed laws limiting women to a 10 hour work d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. Others like Maryland passed laws to assist workers that had been injured on the jo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y Vocabul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essivism- Period of dramatic change where reformers set out address major social, political and economic probl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rman Anti-Trust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a Tarb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4038480" cy="586728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. Labor unions &amp; reformers helped to get shorter work days, improvements in factory safet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8" descr="ewbv50"/>
          <p:cNvPicPr/>
          <p:nvPr/>
        </p:nvPicPr>
        <p:blipFill>
          <a:blip r:embed="rId1"/>
          <a:stretch/>
        </p:blipFill>
        <p:spPr>
          <a:xfrm>
            <a:off x="4629240" y="990720"/>
            <a:ext cx="451476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. Environmental Reform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4033800" cy="579132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John Mu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first modern environmentali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vironmentalism was the idea that we should protect and conserve the countries natural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ved in the Yosemite Valley in Califor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w first hand what loggers, miners and farmers were doing to the l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gan lobbying the federal governm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protect the wilder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429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560" y="1218960"/>
            <a:ext cx="4033800" cy="388620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Theodore Roosevelt Helps the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reased the national forest from 47 million acres to 195 million ac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ubled the number of national par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724280" y="228600"/>
            <a:ext cx="4038840" cy="4419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4800600" y="4876920"/>
            <a:ext cx="4038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Roosevelt’s conservationism even led the banning of Christmas trees in the White Ho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. Protecting 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038480" cy="594360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rror in the Meat Packing Indust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 Upton Sinclair- Wrote “The Jungle” (190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the book exposed the horrible living &amp; working conditions &amp; sanitation conditions of the meat packing industr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ahoma"/>
              </a:rPr>
              <a:t>“…</a:t>
            </a:r>
            <a:r>
              <a:rPr b="0" i="1" lang="en-US" sz="2400" spc="-1" strike="noStrike">
                <a:solidFill>
                  <a:srgbClr val="ff3300"/>
                </a:solidFill>
                <a:latin typeface="Tahoma"/>
              </a:rPr>
              <a:t>there would be meat that tumbled out on the floor in the dirt &amp; sawdust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695200" y="452772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urns Meat Packing C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12" descr="madcow"/>
          <p:cNvPicPr/>
          <p:nvPr/>
        </p:nvPicPr>
        <p:blipFill>
          <a:blip r:embed="rId1"/>
          <a:stretch/>
        </p:blipFill>
        <p:spPr>
          <a:xfrm>
            <a:off x="4191120" y="1219320"/>
            <a:ext cx="47131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48320" y="228600"/>
            <a:ext cx="4038480" cy="586728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Sinclair’s work led to the Meat Inspection Act (190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called for strict cleanliness requirements &amp; the creation of federal meat inspection progra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304920" y="4724280"/>
            <a:ext cx="358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"There is one kind of prison where the man is behind bars, and everything that he desires is outside; and there is another kind where things are behind bars, and the man is outside.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12" descr="tonyarthur-340-Copy_of_sinclai"/>
          <p:cNvPicPr/>
          <p:nvPr/>
        </p:nvPicPr>
        <p:blipFill>
          <a:blip r:embed="rId1"/>
          <a:stretch/>
        </p:blipFill>
        <p:spPr>
          <a:xfrm>
            <a:off x="685800" y="0"/>
            <a:ext cx="3090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4038480" cy="617220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ure Food &amp; Drug 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 Before this law companies falsy advertised &amp; added harmful chemicals to their products.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PFDA was passed same year as Meat Insp. Act &amp; stopped the sale of contaminated foods &amp; medic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 called for truth in lab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8" descr="snake-oil"/>
          <p:cNvPicPr/>
          <p:nvPr/>
        </p:nvPicPr>
        <p:blipFill>
          <a:blip r:embed="rId1"/>
          <a:stretch/>
        </p:blipFill>
        <p:spPr>
          <a:xfrm>
            <a:off x="5791320" y="609480"/>
            <a:ext cx="24476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3868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. Women’s Suffrage 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Susan B. Anthony, Alice Paul were leaders in the fight for women’s voting righ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Their efforts led to the passage of the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mend. (women’s right to vot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250px-AlicePaul_19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990720"/>
            <a:ext cx="3687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. How the Media Exposed Corrup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392436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muckrakers us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yellow journalis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writing about scandal &amp; sensation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Ida Tarbell (Rockefeller oil), Lincoln Steffens (political corruption), Henry Demarest Lloyd (Big Business, power of the wealth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7" descr="bosses"/>
          <p:cNvPicPr/>
          <p:nvPr/>
        </p:nvPicPr>
        <p:blipFill>
          <a:blip r:embed="rId1"/>
          <a:stretch/>
        </p:blipFill>
        <p:spPr>
          <a:xfrm>
            <a:off x="0" y="1523880"/>
            <a:ext cx="465768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cussion Ques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abor 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are your thoughts on the changes that the labor movement brought abou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 you think government should be involved in the regulation in the work plac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vironmentalis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 you think the ideas behind environmentalism were correc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w do you think the movement towards preserving the environment has impacted the world you live in today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 your two primary source docu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w do these two documents connect to each othe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what ways do the documents represent the fulfillment of the ideals of the progressive era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. Regulating Big Busin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4191120" cy="594360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txBody>
          <a:bodyPr anchor="t">
            <a:normAutofit fontScale="93000"/>
          </a:bodyPr>
          <a:p>
            <a:pPr marL="496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Benefits of Big 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Created new jo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New affordable produ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Wealth was used for philanthropy (generosity to charit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mil. Of $ were donated to libraries, hospitals, the arts, research, universities,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4862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. Sherman Anti-Trust Act (1890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w developed to stop trusts and monopolies from using underhanded metho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ex. controlling prices, trade or supp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Purpose was to protect compet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02120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. ‘Busting Trusts’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541008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though congress tried to fight monopolies in big business w/the Sherman Anti-Trust Act, it was not strictly enforc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. Theodore Roosevelt made it his mission to break up trusts &amp; monopol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4648320" y="1143000"/>
            <a:ext cx="4003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743200" y="4724280"/>
            <a:ext cx="403848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onopoly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 right, blasts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ompetition,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center. Uncle Sam, far left, readies to fire a tiny cannon from Fort Legislation. Congress passed the Sherman Antitrust Act in 189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Content Placeholder 4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7657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495320" y="6019560"/>
            <a:ext cx="838440" cy="75960"/>
          </a:xfrm>
          <a:prstGeom prst="rect">
            <a:avLst/>
          </a:prstGeom>
          <a:noFill/>
          <a:ln w="0">
            <a:noFill/>
          </a:ln>
        </p:spPr>
        <p:txBody>
          <a:bodyPr tIns="30240" bIns="3024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440" y="228600"/>
            <a:ext cx="4267080" cy="601992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Began with Northern Securities Co., the largest railroad trust by having the Justice Dept. file a law suit for violating the anti trust ac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 Ida Tarbell helped to expose the monopolies in the oil busi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 Both the railroads &amp; oil bus. Were broken up into smaller business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. Roosevelt’s work pushed the idea that gov’t regulation (enforcement of laws) was neede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5867280" y="0"/>
            <a:ext cx="2581560" cy="3943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5943600" y="3962520"/>
            <a:ext cx="23814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. Reform in Poli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038480" cy="449568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olitical Machin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organized group that controlled the activities of a political party in a c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offered services to voters &amp; businesses in exchange for political or financial suppo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7" descr="03%2520No%2520Registry%2520Law"/>
          <p:cNvPicPr/>
          <p:nvPr/>
        </p:nvPicPr>
        <p:blipFill>
          <a:blip r:embed="rId1"/>
          <a:stretch/>
        </p:blipFill>
        <p:spPr>
          <a:xfrm>
            <a:off x="4419720" y="1523880"/>
            <a:ext cx="472428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4038480" cy="617220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 People received city jobs, or political appointments in exchange for their votes this is known a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atronag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poils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 “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osses”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olled most aspects of the city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(police &amp; fire dept., sanitation, licenses, inspections etc.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amp;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ined citizen support by solving problems in commun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8" descr="1871_boss_tweed"/>
          <p:cNvPicPr/>
          <p:nvPr/>
        </p:nvPicPr>
        <p:blipFill>
          <a:blip r:embed="rId1"/>
          <a:stretch/>
        </p:blipFill>
        <p:spPr>
          <a:xfrm>
            <a:off x="4267080" y="685800"/>
            <a:ext cx="487692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1:41:42Z</dcterms:created>
  <dc:creator> ccr</dc:creator>
  <dc:description/>
  <dc:language>en-US</dc:language>
  <cp:lastModifiedBy>Mark Greer</cp:lastModifiedBy>
  <dcterms:modified xsi:type="dcterms:W3CDTF">2010-11-21T21:40:25Z</dcterms:modified>
  <cp:revision>49</cp:revision>
  <dc:subject/>
  <dc:title>II. Reform for the Urban Poor</dc:title>
</cp:coreProperties>
</file>